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AF7-EAC3-4721-B1A5-FBA9C4FB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62F-EE84-499A-91BA-4880C3DE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9DA-7646-485B-BDC8-73D9C601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304-1E17-4FA3-B5A4-94D751A6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4690-379D-4150-B439-DC87A3D5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DB81-B250-4404-8F43-D151B5B1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A717-27B9-4FB5-95DD-F9A64394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8297-DC5C-47C7-84E7-A8753341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233D-F5EA-4C98-BCEF-D57A3DBE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D341-FA0D-4989-8C1D-F339E453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E3C3-7858-48A8-B1AD-B4E713C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CE9-B3C1-4090-BB7E-EF8B7E62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9DA7-B2AB-4EE5-8CB0-AB58EFE2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A23C-6459-45D3-89F0-EF1D6B71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9856-E3C6-41E3-96FD-FB4385C3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AEF2-FAFF-4F04-99FB-00C1CFC8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CDF7-C815-45C0-832A-60B3173D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36B-D7B5-4594-8171-6F58FA7A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73B-7010-441E-828B-FA2E20C8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B15-C834-45E4-BEAB-B8F35D37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4F7-0BCC-4383-A8AA-1E42E60C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5A4-F3DF-49FC-AAF9-D8FA86C8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D35-728B-41EC-8D3B-653F851A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2EF-8C5A-4EAD-A675-46877843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B1FA-AA1A-49DC-8EC6-8EDA0355E16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F98B-6E3E-44BE-B59E-771E79C40BC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ps-expenses.guardian.co.uk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Liberal Pluralis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edia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643280" y="3730680"/>
            <a:ext cx="40212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Liberal Pluarlis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dominant perspective associated with contemporary capital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Libera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’ – individual choice and freedom are seen as a crucial human r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Pluralis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’ – democratic societies allow a range of political views and opinions and a range of political parties between which the population choose in free elec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Liberal Pluralis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iberal pluralists DEFEND the role of the mass media against the charges brought by Marxist cri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see the mass media as having a generally positive and beneficial role in contemporary socie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does NOT mean that they believe the media are beyond critic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n the contrary, they would expect the media to be the subject of healthy debate and critic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Liberal Pluralists believe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media are completely free to express themselves in any way they see 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media (especially the press) serve an important democratic function by monitoring the activities of politicians and powerful institu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 the most powerful can be scrutinised and brought d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mps-expenses.guardian.co.uk/</a:t>
            </a: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6588000" y="3860640"/>
            <a:ext cx="2178000" cy="2779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1258920" y="4941720"/>
            <a:ext cx="270504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5"/>
          <a:stretch/>
        </p:blipFill>
        <p:spPr>
          <a:xfrm>
            <a:off x="5580000" y="170028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6"/>
          <a:stretch/>
        </p:blipFill>
        <p:spPr>
          <a:xfrm>
            <a:off x="3132000" y="249228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Liberal Pluralists believe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7104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democratic society needs an educated, well informed electorate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mass media can help ensure that people have a good understanding of the issues when they vo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logic of the market place controls quality and value in the mass media just as it does in any other indus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f we’re not satisfied with a media product, we ‘vote with our wallets’ and spend our money elsewhe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companies are constantly on the lookout for gaps in the market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s soon as a new area of demand is identified, a new product will be launched to meet that dem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Liberal Pluralists believe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government has the power to intervene to address any problems which might arise in the free mar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can prevent very powerful companies from wiping out the oppos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also invest in public sector companies such as the BBC, therefore priorities can be set and decisions made which are not purely based on making pro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TU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IKKIPED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udience parti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6:07:58Z</dcterms:created>
  <dc:creator>niall</dc:creator>
  <dc:description/>
  <dc:language>en-US</dc:language>
  <cp:lastModifiedBy>Grainne</cp:lastModifiedBy>
  <dcterms:modified xsi:type="dcterms:W3CDTF">2010-11-10T11:12:11Z</dcterms:modified>
  <cp:revision>11</cp:revision>
  <dc:subject/>
  <dc:title>Liberal Pluralism</dc:title>
</cp:coreProperties>
</file>